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2E54-72A9-405A-9033-65747C8388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B015-CC78-4C5F-BEC1-5DB9F224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76FA2B-CB36-4B9F-A2DD-4BD2B44C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CB6100-B93A-4359-A392-BF66FA48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6587DE-E75C-490A-983A-81BFF079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AF7A46-59F4-49A9-958D-E2D197B2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7FE854-C9FB-4ED7-B5B6-CB2F0112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5683BB-34EF-427D-BA63-1108A2E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0E0176-EFBF-4451-A46E-E6FE0B6B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74AE7D-99BA-4E9C-9635-D1C19B09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248547-5326-4E0A-9952-49D10A43FF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70471-7FAE-44C8-A089-18F38BE8D7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8E72-EDEA-43ED-86BF-F6E5F677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9ABFC-3A1A-4E27-8DFE-D236CE12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006FC-FFFD-44F3-8659-C0A9FA9B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23CFB-3755-43A3-9902-7F7B5CCA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D9DDF-DC94-4A0F-8CF3-3AF0D011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1A371-8495-4FBE-8D93-81562BBD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E7FCB-B13D-4DF9-80F0-18ECE0BF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218A8-DE43-4768-A444-C5CAE577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779F2-C556-4963-B872-1853F593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A3938-4191-4C7F-AD4A-7BED9225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46008-8BEC-4BA2-BBD6-35AEB2A5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C148-19E9-46F7-9DA6-B8B5674182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F123C-FAF2-4ECF-A663-8F42F41B7E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65799D-163C-453E-8364-298A850E36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65A81C-0870-438B-B512-74F582CD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14296F-26EF-44AD-889C-BD0623FF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9287CE-7D0A-4720-8BD5-5D0033F0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2F312C-4BFD-48D5-86AB-F7757A74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4B3D24-7EC9-4E54-AF9F-2BA23BC0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097E02-42C7-4388-A25F-2D6EEAAB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923420-EC26-4352-B543-CEAF8AB0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536BC9-9F38-48BA-8415-32F0984F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02852-6720-4E77-BA98-BC00DFC3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2D4954-933C-4107-ACCB-FA88EA83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4AF6C2-F08D-411C-9E5A-56E68191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983531-B31F-434B-A9F1-1250E5D209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80AA8-324A-49C0-A74E-08DD615AA7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0BCA2-A7ED-4A1E-B0F3-10D73B3A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F85E5-C28B-4C8A-A390-33ADB15F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A8AB1-B27B-4B11-83E9-7B850DD6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7985D-4304-4C59-AD0E-72E286CC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A9028-F2A3-4EA6-9EE9-B2C65CE7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927BE-F3CC-43F6-B735-3175D46C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A1A42-D3A2-44A4-86F6-A34D4C38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4EBBB-60E2-4931-8876-251CE036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38504-C321-4EC3-B05A-6DA84BF9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A8E60-48D9-48AF-9CB8-FC512D3B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A3A0B-4607-4B37-B4F9-8478A387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ED0A0-25EC-4F14-B590-4A57256FDC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A4402-9C7A-462B-9805-56B996FECE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60753-5707-4204-BF4E-C99D5687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31DEE-74E9-4AF5-B192-3FA0BE52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12A14-8676-4BFA-A461-53787A77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10688-4AE8-44E3-BC21-9582AA30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0AD93-C297-431E-990D-04FF0594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34430-2237-442D-8074-A7E9DB81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144D3-8762-4EFA-A65B-664A3DBA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123C9-C490-4EA2-8CC7-3428B1E9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7ECD2-375F-4442-A627-4E6E487E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E5707-D674-4E4F-BF8F-AB042F3E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204B2-0B14-416F-8C42-2C340062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42B28-BBC5-4FB6-B11C-63114F1755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BF93F-FA27-4992-B5AC-93C23D4D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2CD48-0F12-46AC-8279-56F8A9F0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F029F-9FD8-492D-B9CC-A35490C0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FB6E6-DAFA-4151-B2EB-4FCFDDF2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75F14-160B-48C7-B14A-1905D261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DD1F6-360D-4374-90B2-6DA2009A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7EA9F-9BAD-4644-9595-5764C9A1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1FB3F-F265-4D32-9A70-3A62BE7B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97AC4-A24B-445A-883D-A7E532CA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DD5BB-4B9E-4B48-A953-1FA221CA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0B26F-CC0C-424D-B4AF-476574BA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3BC65-8264-4DB2-B563-5A7C66DC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9AFC8-0232-4AC1-BF97-8F8C6D4A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9ED2F-7F14-4962-9E43-838F414E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36B14-041E-4696-934A-42B8D17E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18E44-5D38-4993-97DC-0B7BBB00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82E3C-3788-49E8-8B54-135BA5C9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A63FE-718F-4754-A0A8-14D82A9A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637A4-6B69-4B96-89FF-04733F1E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C46B5-09EC-4D0B-88FD-6F9350DA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3C704-0A16-450C-8CE2-B21BE81A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73CF3-6C7C-488C-8BCB-9AF34A6C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6836C-ECE8-400B-87A2-2E5E48E5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29456-D277-4BE2-B394-993B8618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A1354-D968-4ECA-960C-FF1AB3C0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2B489-D9A7-496A-B852-52C6715B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7EBBC-796D-46AB-A0DD-78BBB2F2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909CE-8A77-4216-8BF3-24B75AC1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4F15F-F3DA-4870-8D96-CAC87A80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FC4C7-1669-42C1-847C-D67CA11C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8BA01-C962-4663-B444-06C0785F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2C5B2-9BEA-4525-A419-37C206A2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2F493-EA24-4B05-822D-982C168B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FE455-D1F6-45FB-955E-0F81D092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5763B-781E-409C-8C6D-C57F28BC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6C47F-353E-465F-B10F-6A818D5D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B7358-0E7E-469F-8802-874311D6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9698F-1DCD-42AE-AD7C-381A4326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7DF04-FC68-4322-B00C-10275528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D452C-AAEB-40D7-A191-6C8947A8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A1B48-E5AB-4B14-A49E-751B685B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22E3A-6BB8-4F49-A399-6121127D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74B78-2BA2-4B53-8ED5-22335B6B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B551B-8F80-4AB7-922C-1FCC1319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A8E25-B53C-467D-A415-31E259C9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2B923-00CC-4285-A32D-E1629442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74140-F020-4995-AAC2-36C5168E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4D26-95E4-4B4C-B602-57A667DB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35B63-5A02-479F-ACFA-6BDCCA22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DD333-C5BD-49AF-B4C0-3D435939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BA76E-3179-40ED-ABDC-CC06F0B5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C597E-168E-4345-B30D-65CA2C4B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AA2CE-4E1C-47A9-BEBE-FB27B08A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4DCD3-37AD-429B-B6B3-19A3C391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1AB9F-FF09-4A21-9079-B1E1DBC2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87797-9A0E-44F6-AD79-FC1274DD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F9E31-3D9A-4C11-89EE-8F75017D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00C2A-310D-4D69-915B-E6199B2B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43491-58FD-4651-BC03-0240C00A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85375-C373-4F99-8810-48CA9339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15ADC-4C7C-4779-90DE-4B4DAFE7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8293E-DB33-4711-9649-375695AC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191A3-8890-4865-B971-02000813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88D55-C6E4-4C43-961D-46DD26BD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21233-181F-4C3C-868F-7D36D0F4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58048-BE48-41F1-AABB-B8C444B6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1312A-3B2F-46EC-9322-942C0BE0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4D2EA-069B-4A6A-BA70-D564DB45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21D97-8F09-47F1-8096-0D257D2D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C31ACB-2446-4AC4-ABB0-6F641BD3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770FE-EEC1-4120-9886-7FE4AC77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2A17C-10FD-4E69-AF04-8F0FE19A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80D1F-6ABA-4B57-A956-3288317D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9058C-E8B2-4C6D-B3B7-3D27D560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8C957-38FB-4891-B360-E96F187E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54595-1FBA-443E-9114-21EF3168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D6613-E583-456D-8530-401407AE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9A5205-3BCA-469E-8B03-924444DE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14D18-B711-4676-A2B7-497BDF17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BB3F01-276A-4B28-8309-64C2652B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9B5340-2697-429A-8F09-63DE9FEE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160D9-853D-4902-9C08-66C1C27C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6DC1C-F7FA-4AD7-AF9B-4620C900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0C5C66-F04F-428E-9D3E-392FB5AC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83A58-D412-4CFC-8955-F886A8C5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7C42EB-A4C2-43BF-B73B-0316D727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19E2FF-CBBF-4B55-A2D4-7F23CF66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B3FF13-E9EA-4A04-BD35-4C54924A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246CA1-D35A-457B-BEBE-F882A2E3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BF9C2A-117A-4872-8942-85FA6118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5ABAF-A33E-4E95-854F-5A4F926F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153EAB-200F-472A-A60B-40D65EA9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3199D-80E5-423A-9FD1-4F8FC2CF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4DCB7-F3A2-45F5-B6B1-1FF2D9EB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23DC11-C616-41F1-A9D1-58285363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64C9DB-BD84-4FAC-943D-64142C4F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121EC-2EA6-4BF2-B4A6-0ACF2216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463332-7D17-4E1B-85DD-3DC0A8BF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76091C-94DC-4391-8B2D-0607466D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28ADA-593B-41FE-ABE3-6FA4D3ED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DD51A3-09BB-401E-8115-A905EB0D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08151-7635-4B30-86C5-9A898BA2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4594F-7457-45E2-BF39-39CE5BDB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3F6E06-8C57-4353-863F-8EEF9F78B9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55911-E44B-4945-AE81-15E3ABB6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7793C0-2A66-457F-9174-2996B65E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014C2-F4C0-4489-A1E2-188BA5E4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EA4B1-E113-4630-82EE-875E2816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632F54-5A45-4B2C-80E5-F191AADE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7F7BE-D235-41B2-B5FE-93C32B87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9BEDE5-6CA3-486B-B845-3376A7D6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4F8029-9A83-4F28-90A0-2E691263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6C8527-45E7-43B5-BF20-42005F4F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64C8B-9D97-4E81-BA66-275C4272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5893CD-6380-4D94-90F2-97538773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D5E478-F843-4541-801A-53BE0F0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15BD70-670F-4193-AFBE-9E461F6E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F61E9-22FA-4C3C-B08F-59C8A1B6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67D78B-A1C8-458F-AF61-BCEC2FC5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4401A-B744-4D47-9D65-A4DFDDA8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03E7CF-31A8-483B-805B-84191731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F9B86E-C8EC-47E1-8601-2DA839E7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4891B-1F96-4FF5-8CC7-46264F59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ADB988-7F02-486C-861C-4B2F487D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F8355-720B-43AA-960B-E2725029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8840D-D619-4A4A-B6AC-C8A63572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EE3FD-32F7-466C-A499-A61478DB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FBB37C-1BBE-4080-8364-C371A4E6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51D8B6-5B03-47C8-BAF2-C4357BE7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80BDDA-5990-4EC4-9E79-B443E458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114CFC-D260-4681-8EB4-8694B436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A3B1D8-00C6-438F-91E2-A2820151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C6752-6F74-451B-8F94-D7DA4E0A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884B4F-E386-488B-8E2F-E55FEB37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17E93D-91EF-4D79-8698-BC769947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263204-CB78-4CC7-880C-22BC1C93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39094-E597-4C57-AA3D-9F29C83F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7864FF-B0EB-4D10-BFEB-FA60DDD9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FAB49C-3B48-406A-9E5B-12ABA7D5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CF2D7-4963-4168-A50E-2786ACB8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0B6D36-613A-4A1B-BB65-7F47160C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B758E-DE8A-496A-B533-C2C6AF4C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AB0B32-0321-4B51-BB29-F5F24905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B53C2-75F4-434C-9389-FF05305D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EF03E3-2EEC-43F0-9A6E-9F773163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BE0E6-86F2-4B35-8E51-8DA8ED1F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C093C-FE77-4977-9E5C-100E0974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5C78-35D7-4321-A943-CA8CA1B8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F140B1-52DB-42F5-AB09-3648313B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658663-289D-4816-85CD-73C06F67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CAF23-77A2-4FEC-8AD9-AC543B6D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202769-38B7-4C1D-8EC9-1E8C89B3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0D9A6-80BA-4449-B7B7-66ABA777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4E6BCD-5A03-4338-B5BF-53F7B7A8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E79734-CA8C-4BBB-B1BA-969484779C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78DEC-BE29-4C5F-ABD6-9CA1F70A74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85BE-AFF0-4A60-A713-69DEA3B5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4BAA-F30B-457E-9940-03EC4A19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1A76-EEF2-4BFC-88E5-87EE279A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4FBAC-BC95-467E-8747-671F28B6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0E9A-7A2F-441F-8469-5FAB1414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7824-608B-4F09-906B-A90FFAF2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6E16-C79F-4C9A-A738-15EBB6D0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79443-DA49-4C3A-B3D5-FEC980DE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CE6B1-5E4A-47EF-AE24-4345D6F7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72ABC-C306-468A-81BC-BCC5BC63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8AB2-81E1-4DCE-B850-FF64EEDB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160DF-FF3E-41BD-B8CC-0BD7DF6F30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21A19-11B9-4951-A087-EB951FBEC7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95D0-1F4A-4608-BA4D-7B8704D1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5FE12-5078-4F36-9356-A79B08E6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E22C1-B354-4723-AA0A-642F3C8C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82878-5DDA-4279-A7F4-72EBFFA7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3092A-F3A5-4D5B-8C5D-389D0DD1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15A91C-8598-409E-B8F6-2B0B492F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56869-6C6C-4FAE-8F91-B9AA2FF6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A3FF12-A0EB-480B-8BDD-76F61640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A37AC-1C7F-4E36-89A6-3271BEF2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A9F00-4BE8-43F6-98CB-ABDEB37D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232A7-C52F-4BE4-9DEC-4170A57B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3E73-5545-4522-8E52-DEEA6DE2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F8A9C-ABA8-48E1-80ED-3B01E4586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CA10FE-CC79-4905-A59F-8D3345EA47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3AF83C-92A3-426F-B043-6E3751E0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54F8DE-115C-41E2-BB5F-376058E0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69D695-1975-4BC5-B195-BD760ED1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2924D0-902D-4E43-87C5-E3DBECF8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B5B863-6E3B-4A01-90DD-53C47A3B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A96983-F053-41F0-8D1B-BED2D8EA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98079A-05A1-4957-99FA-AAF694AA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6BFAD2-F306-4F76-BF35-F4778CCD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C1356-5266-41A4-80C5-88316ECA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81C4D6-F076-4D2E-BA81-7FCDDEDC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3B6E4C-AFAA-4281-8198-B9D67709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5B3E1B-C2C6-419E-A2C0-A14FE95283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E12B3-D4F9-43F3-ABF3-E5750279E5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63F7E-A607-40FD-A5E7-41982BC0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86961-AD50-47A0-BA02-6F889A3B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28AB9-B715-4206-9774-730D5D33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02A13-2B2A-481F-81A8-9DD3E237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C32AB-7954-4BAC-B9D2-F28BC725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82B3E-6F11-43BF-B81E-640FF80B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8FFE-2362-4DE1-9AEC-6396E0B3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4A657-D81F-4DAA-B480-53B387DF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CD5A2-F234-459E-B8AF-B5A0295D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40E90-EA32-4378-A582-6F4AD936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210CB-8ABA-49F6-BC28-7F0ECFC1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6328E-2A03-48A1-8F13-8B21A90D55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F56814-47B3-4ADA-9580-79A2EF33B3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9BDEC-FBCD-4ADD-A452-B97AA20E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5265B-B481-404C-A7E1-EC18C349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FE737E-9EB1-4D73-BCF0-F2CC9517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24F19-03A1-436C-9C3A-6BF17558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FBEB-57DE-45D7-8A96-C413819A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D906B-C532-4CD4-BCCA-B113607A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9AA73-CE87-4CB9-99F1-FA48D303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C7005-CBE2-4E8B-94BB-3DCC8818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D5B52-8FAA-4104-B754-1986D082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FDE753-8F72-4FA3-9992-CA1EE136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41F280-2C51-4175-9E3C-9C7DF623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65829-A0AA-409B-A653-E96055B993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8A003A-6336-447E-85DD-32EBD85893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AC2930-EF1B-46C8-AA21-C694B193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F2D970-DFF6-444D-AB49-3B3EC8E4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474B-009C-4587-9CD1-2F0924BA401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EE4E-BCAE-42F3-A4B7-2CDB5F35428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C39A-95B4-4951-8C60-67A5B6A14D4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0770-D89C-4B3D-83FE-C2FD41EA447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4AF1-581D-48E4-955C-EA302F92A7C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44B5-9B42-40A3-879F-20BE6E93A82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DF09-8EE7-4EFF-A0A6-32942FE906E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4CDA-3978-4BF9-9ADE-9ACC8197C47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3858-E97F-498F-A637-28739BAAB4E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C99C-1A5A-4F9D-944E-D64C6FD82F1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09BB-3101-4F4E-9133-2F92584F2A8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0B5B-6B16-4F0F-987A-2F5F2AF962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7054-3B86-4B25-9C83-5A6C1550524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CA5A-6961-4414-AB23-3A1398109FA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CAC6-D585-4B43-9A57-578EC153E36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64C6-C0CC-4DC6-BBA2-68EBCF7CBE7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48BA-8AFF-4C19-BEAD-C8562E3CD67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6413-289A-4F0A-9C44-5E4FAC2764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5EAB-0CF1-43F8-911F-5598307316D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E456-3589-4ADF-A713-2F4DE6627B6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8163-9F57-4B8C-9CE7-2DC455DDBA9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F2EA-7BD0-48E1-911C-AC0D74DA4B6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3F38-F922-423A-9A2C-8F9ADB79944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190B-943A-4457-8F95-2C11ACD0FC1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21948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 习 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999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01" name="椭圆 8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文本框 4"/>
          <p:cNvSpPr/>
          <p:nvPr/>
        </p:nvSpPr>
        <p:spPr>
          <a:xfrm>
            <a:off x="439560" y="868320"/>
            <a:ext cx="18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6"/>
          <p:cNvSpPr/>
          <p:nvPr/>
        </p:nvSpPr>
        <p:spPr>
          <a:xfrm>
            <a:off x="684360" y="1535040"/>
            <a:ext cx="7740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=            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=            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=           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=            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=            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=            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=            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=            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7"/>
          <p:cNvSpPr/>
          <p:nvPr/>
        </p:nvSpPr>
        <p:spPr>
          <a:xfrm>
            <a:off x="1720800" y="167652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13"/>
          <p:cNvSpPr/>
          <p:nvPr/>
        </p:nvSpPr>
        <p:spPr>
          <a:xfrm>
            <a:off x="3849840" y="167652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17"/>
          <p:cNvSpPr/>
          <p:nvPr/>
        </p:nvSpPr>
        <p:spPr>
          <a:xfrm>
            <a:off x="5994360" y="167652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19"/>
          <p:cNvSpPr/>
          <p:nvPr/>
        </p:nvSpPr>
        <p:spPr>
          <a:xfrm>
            <a:off x="1752480" y="231300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文本框 20"/>
          <p:cNvSpPr/>
          <p:nvPr/>
        </p:nvSpPr>
        <p:spPr>
          <a:xfrm>
            <a:off x="3879720" y="231300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22"/>
          <p:cNvSpPr/>
          <p:nvPr/>
        </p:nvSpPr>
        <p:spPr>
          <a:xfrm>
            <a:off x="6024600" y="231300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文本框 23"/>
          <p:cNvSpPr/>
          <p:nvPr/>
        </p:nvSpPr>
        <p:spPr>
          <a:xfrm>
            <a:off x="1727280" y="295128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24"/>
          <p:cNvSpPr/>
          <p:nvPr/>
        </p:nvSpPr>
        <p:spPr>
          <a:xfrm>
            <a:off x="3854520" y="2951280"/>
            <a:ext cx="7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25"/>
          <p:cNvSpPr/>
          <p:nvPr/>
        </p:nvSpPr>
        <p:spPr>
          <a:xfrm>
            <a:off x="5999040" y="295128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26"/>
          <p:cNvSpPr/>
          <p:nvPr/>
        </p:nvSpPr>
        <p:spPr>
          <a:xfrm>
            <a:off x="1719360" y="359100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27"/>
          <p:cNvSpPr/>
          <p:nvPr/>
        </p:nvSpPr>
        <p:spPr>
          <a:xfrm>
            <a:off x="3846600" y="3591000"/>
            <a:ext cx="7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29"/>
          <p:cNvSpPr/>
          <p:nvPr/>
        </p:nvSpPr>
        <p:spPr>
          <a:xfrm>
            <a:off x="5991120" y="359100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24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5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26" name="椭圆 8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7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8" name="椭圆 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9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0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2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3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34" name="组合 17"/>
          <p:cNvGrpSpPr/>
          <p:nvPr/>
        </p:nvGrpSpPr>
        <p:grpSpPr>
          <a:xfrm>
            <a:off x="434880" y="838080"/>
            <a:ext cx="8699760" cy="2232000"/>
            <a:chOff x="434880" y="838080"/>
            <a:chExt cx="8699760" cy="2232000"/>
          </a:xfrm>
        </p:grpSpPr>
        <p:sp>
          <p:nvSpPr>
            <p:cNvPr id="1035" name="文本框 1"/>
            <p:cNvSpPr/>
            <p:nvPr/>
          </p:nvSpPr>
          <p:spPr>
            <a:xfrm>
              <a:off x="434880" y="838080"/>
              <a:ext cx="86997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在       里填上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＞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”“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＜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或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=”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5       31            3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        4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4              14       2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       4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        6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        5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         1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       2</a:t>
              </a: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"/>
            <p:cNvSpPr/>
            <p:nvPr/>
          </p:nvSpPr>
          <p:spPr>
            <a:xfrm>
              <a:off x="929520" y="84384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3"/>
            <p:cNvSpPr/>
            <p:nvPr/>
          </p:nvSpPr>
          <p:spPr>
            <a:xfrm>
              <a:off x="1271880" y="169668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椭圆 4"/>
            <p:cNvSpPr/>
            <p:nvPr/>
          </p:nvSpPr>
          <p:spPr>
            <a:xfrm>
              <a:off x="3918960" y="169668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椭圆 5"/>
            <p:cNvSpPr/>
            <p:nvPr/>
          </p:nvSpPr>
          <p:spPr>
            <a:xfrm>
              <a:off x="6742080" y="172116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椭圆 6"/>
            <p:cNvSpPr/>
            <p:nvPr/>
          </p:nvSpPr>
          <p:spPr>
            <a:xfrm>
              <a:off x="6725880" y="254376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椭圆 7"/>
            <p:cNvSpPr/>
            <p:nvPr/>
          </p:nvSpPr>
          <p:spPr>
            <a:xfrm>
              <a:off x="3932640" y="255780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椭圆 13"/>
            <p:cNvSpPr/>
            <p:nvPr/>
          </p:nvSpPr>
          <p:spPr>
            <a:xfrm>
              <a:off x="1269000" y="2566080"/>
              <a:ext cx="504000" cy="50400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文本框 19"/>
          <p:cNvSpPr/>
          <p:nvPr/>
        </p:nvSpPr>
        <p:spPr>
          <a:xfrm>
            <a:off x="1243080" y="1687680"/>
            <a:ext cx="4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20"/>
          <p:cNvSpPr/>
          <p:nvPr/>
        </p:nvSpPr>
        <p:spPr>
          <a:xfrm>
            <a:off x="3889440" y="1701720"/>
            <a:ext cx="4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22"/>
          <p:cNvSpPr/>
          <p:nvPr/>
        </p:nvSpPr>
        <p:spPr>
          <a:xfrm>
            <a:off x="6718320" y="1709640"/>
            <a:ext cx="4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23"/>
          <p:cNvSpPr/>
          <p:nvPr/>
        </p:nvSpPr>
        <p:spPr>
          <a:xfrm>
            <a:off x="1254240" y="2570040"/>
            <a:ext cx="4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24"/>
          <p:cNvSpPr/>
          <p:nvPr/>
        </p:nvSpPr>
        <p:spPr>
          <a:xfrm>
            <a:off x="3956040" y="2554200"/>
            <a:ext cx="4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25"/>
          <p:cNvSpPr/>
          <p:nvPr/>
        </p:nvSpPr>
        <p:spPr>
          <a:xfrm>
            <a:off x="6794640" y="255096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50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1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52" name="椭圆 8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椭圆 9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5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60" name="组合 90"/>
          <p:cNvGrpSpPr/>
          <p:nvPr/>
        </p:nvGrpSpPr>
        <p:grpSpPr>
          <a:xfrm>
            <a:off x="368280" y="728640"/>
            <a:ext cx="8381520" cy="3367800"/>
            <a:chOff x="368280" y="728640"/>
            <a:chExt cx="8381520" cy="3367800"/>
          </a:xfrm>
        </p:grpSpPr>
        <p:sp>
          <p:nvSpPr>
            <p:cNvPr id="1061" name="文本框 2"/>
            <p:cNvSpPr/>
            <p:nvPr/>
          </p:nvSpPr>
          <p:spPr>
            <a:xfrm>
              <a:off x="368280" y="728640"/>
              <a:ext cx="456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看图列式计算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组合 17"/>
            <p:cNvGrpSpPr/>
            <p:nvPr/>
          </p:nvGrpSpPr>
          <p:grpSpPr>
            <a:xfrm>
              <a:off x="691920" y="1621800"/>
              <a:ext cx="388440" cy="986400"/>
              <a:chOff x="691920" y="1621800"/>
              <a:chExt cx="388440" cy="986400"/>
            </a:xfrm>
          </p:grpSpPr>
          <p:sp>
            <p:nvSpPr>
              <p:cNvPr id="1063" name="矩形 1"/>
              <p:cNvSpPr/>
              <p:nvPr/>
            </p:nvSpPr>
            <p:spPr>
              <a:xfrm>
                <a:off x="691920" y="1621800"/>
                <a:ext cx="388440" cy="98640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十字星 5"/>
              <p:cNvSpPr/>
              <p:nvPr/>
            </p:nvSpPr>
            <p:spPr>
              <a:xfrm>
                <a:off x="745920" y="229176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十字星 7"/>
              <p:cNvSpPr/>
              <p:nvPr/>
            </p:nvSpPr>
            <p:spPr>
              <a:xfrm>
                <a:off x="745920" y="196488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十字星 13"/>
              <p:cNvSpPr/>
              <p:nvPr/>
            </p:nvSpPr>
            <p:spPr>
              <a:xfrm>
                <a:off x="745920" y="163800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7" name="组合 19"/>
            <p:cNvGrpSpPr/>
            <p:nvPr/>
          </p:nvGrpSpPr>
          <p:grpSpPr>
            <a:xfrm>
              <a:off x="1265400" y="1621800"/>
              <a:ext cx="388440" cy="986400"/>
              <a:chOff x="1265400" y="1621800"/>
              <a:chExt cx="388440" cy="986400"/>
            </a:xfrm>
          </p:grpSpPr>
          <p:sp>
            <p:nvSpPr>
              <p:cNvPr id="1068" name="矩形 20"/>
              <p:cNvSpPr/>
              <p:nvPr/>
            </p:nvSpPr>
            <p:spPr>
              <a:xfrm>
                <a:off x="1265400" y="1621800"/>
                <a:ext cx="388440" cy="98640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十字星 22"/>
              <p:cNvSpPr/>
              <p:nvPr/>
            </p:nvSpPr>
            <p:spPr>
              <a:xfrm>
                <a:off x="1319400" y="229176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十字星 23"/>
              <p:cNvSpPr/>
              <p:nvPr/>
            </p:nvSpPr>
            <p:spPr>
              <a:xfrm>
                <a:off x="1319400" y="196488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十字星 24"/>
              <p:cNvSpPr/>
              <p:nvPr/>
            </p:nvSpPr>
            <p:spPr>
              <a:xfrm>
                <a:off x="1319400" y="163800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组合 25"/>
            <p:cNvGrpSpPr/>
            <p:nvPr/>
          </p:nvGrpSpPr>
          <p:grpSpPr>
            <a:xfrm>
              <a:off x="1838880" y="1621800"/>
              <a:ext cx="388440" cy="986400"/>
              <a:chOff x="1838880" y="1621800"/>
              <a:chExt cx="388440" cy="986400"/>
            </a:xfrm>
          </p:grpSpPr>
          <p:sp>
            <p:nvSpPr>
              <p:cNvPr id="1073" name="矩形 26"/>
              <p:cNvSpPr/>
              <p:nvPr/>
            </p:nvSpPr>
            <p:spPr>
              <a:xfrm>
                <a:off x="1838880" y="1621800"/>
                <a:ext cx="388440" cy="98640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十字星 27"/>
              <p:cNvSpPr/>
              <p:nvPr/>
            </p:nvSpPr>
            <p:spPr>
              <a:xfrm>
                <a:off x="1892880" y="229176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十字星 29"/>
              <p:cNvSpPr/>
              <p:nvPr/>
            </p:nvSpPr>
            <p:spPr>
              <a:xfrm>
                <a:off x="1892880" y="196488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十字星 30"/>
              <p:cNvSpPr/>
              <p:nvPr/>
            </p:nvSpPr>
            <p:spPr>
              <a:xfrm>
                <a:off x="1892880" y="163800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组合 31"/>
            <p:cNvGrpSpPr/>
            <p:nvPr/>
          </p:nvGrpSpPr>
          <p:grpSpPr>
            <a:xfrm>
              <a:off x="2412360" y="1621800"/>
              <a:ext cx="388440" cy="986400"/>
              <a:chOff x="2412360" y="1621800"/>
              <a:chExt cx="388440" cy="986400"/>
            </a:xfrm>
          </p:grpSpPr>
          <p:sp>
            <p:nvSpPr>
              <p:cNvPr id="1078" name="矩形 32"/>
              <p:cNvSpPr/>
              <p:nvPr/>
            </p:nvSpPr>
            <p:spPr>
              <a:xfrm>
                <a:off x="2412360" y="1621800"/>
                <a:ext cx="388440" cy="98640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十字星 33"/>
              <p:cNvSpPr/>
              <p:nvPr/>
            </p:nvSpPr>
            <p:spPr>
              <a:xfrm>
                <a:off x="2466360" y="229176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十字星 34"/>
              <p:cNvSpPr/>
              <p:nvPr/>
            </p:nvSpPr>
            <p:spPr>
              <a:xfrm>
                <a:off x="2466360" y="196488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十字星 35"/>
              <p:cNvSpPr/>
              <p:nvPr/>
            </p:nvSpPr>
            <p:spPr>
              <a:xfrm>
                <a:off x="2466360" y="163800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2" name="组合 36"/>
            <p:cNvGrpSpPr/>
            <p:nvPr/>
          </p:nvGrpSpPr>
          <p:grpSpPr>
            <a:xfrm>
              <a:off x="2985480" y="1621800"/>
              <a:ext cx="388440" cy="986400"/>
              <a:chOff x="2985480" y="1621800"/>
              <a:chExt cx="388440" cy="986400"/>
            </a:xfrm>
          </p:grpSpPr>
          <p:sp>
            <p:nvSpPr>
              <p:cNvPr id="1083" name="矩形 37"/>
              <p:cNvSpPr/>
              <p:nvPr/>
            </p:nvSpPr>
            <p:spPr>
              <a:xfrm>
                <a:off x="2985480" y="1621800"/>
                <a:ext cx="388440" cy="98640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十字星 38"/>
              <p:cNvSpPr/>
              <p:nvPr/>
            </p:nvSpPr>
            <p:spPr>
              <a:xfrm>
                <a:off x="3039480" y="229176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十字星 39"/>
              <p:cNvSpPr/>
              <p:nvPr/>
            </p:nvSpPr>
            <p:spPr>
              <a:xfrm>
                <a:off x="3039480" y="196488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十字星 40"/>
              <p:cNvSpPr/>
              <p:nvPr/>
            </p:nvSpPr>
            <p:spPr>
              <a:xfrm>
                <a:off x="3039480" y="163800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7" name="组合 41"/>
            <p:cNvGrpSpPr/>
            <p:nvPr/>
          </p:nvGrpSpPr>
          <p:grpSpPr>
            <a:xfrm>
              <a:off x="3558960" y="1621800"/>
              <a:ext cx="388440" cy="986400"/>
              <a:chOff x="3558960" y="1621800"/>
              <a:chExt cx="388440" cy="986400"/>
            </a:xfrm>
          </p:grpSpPr>
          <p:sp>
            <p:nvSpPr>
              <p:cNvPr id="1088" name="矩形 42"/>
              <p:cNvSpPr/>
              <p:nvPr/>
            </p:nvSpPr>
            <p:spPr>
              <a:xfrm>
                <a:off x="3558960" y="1621800"/>
                <a:ext cx="388440" cy="98640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十字星 43"/>
              <p:cNvSpPr/>
              <p:nvPr/>
            </p:nvSpPr>
            <p:spPr>
              <a:xfrm>
                <a:off x="3612960" y="229176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十字星 44"/>
              <p:cNvSpPr/>
              <p:nvPr/>
            </p:nvSpPr>
            <p:spPr>
              <a:xfrm>
                <a:off x="3612960" y="196488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十字星 45"/>
              <p:cNvSpPr/>
              <p:nvPr/>
            </p:nvSpPr>
            <p:spPr>
              <a:xfrm>
                <a:off x="3612960" y="1638000"/>
                <a:ext cx="287640" cy="288000"/>
              </a:xfrm>
              <a:custGeom>
                <a:avLst/>
                <a:gdLst>
                  <a:gd name="textAreaLeft" fmla="*/ 118440 w 287640"/>
                  <a:gd name="textAreaRight" fmla="*/ 169200 w 287640"/>
                  <a:gd name="textAreaTop" fmla="*/ 118800 h 288000"/>
                  <a:gd name="textAreaBottom" fmla="*/ 169200 h 28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92" name="图片 46" descr=""/>
            <p:cNvPicPr/>
            <p:nvPr/>
          </p:nvPicPr>
          <p:blipFill>
            <a:blip r:embed="rId8"/>
            <a:srcRect l="0" t="0" r="5927" b="0"/>
            <a:stretch/>
          </p:blipFill>
          <p:spPr>
            <a:xfrm rot="16200000">
              <a:off x="2137680" y="1104480"/>
              <a:ext cx="392040" cy="35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文本框 47"/>
            <p:cNvSpPr/>
            <p:nvPr/>
          </p:nvSpPr>
          <p:spPr>
            <a:xfrm>
              <a:off x="1899000" y="2868480"/>
              <a:ext cx="11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？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组合 52"/>
            <p:cNvGrpSpPr/>
            <p:nvPr/>
          </p:nvGrpSpPr>
          <p:grpSpPr>
            <a:xfrm>
              <a:off x="612360" y="3453840"/>
              <a:ext cx="3528360" cy="642600"/>
              <a:chOff x="612360" y="3453840"/>
              <a:chExt cx="3528360" cy="642600"/>
            </a:xfrm>
          </p:grpSpPr>
          <p:sp>
            <p:nvSpPr>
              <p:cNvPr id="1095" name="矩形 48"/>
              <p:cNvSpPr/>
              <p:nvPr/>
            </p:nvSpPr>
            <p:spPr>
              <a:xfrm>
                <a:off x="612360" y="3594600"/>
                <a:ext cx="444240" cy="402120"/>
              </a:xfrm>
              <a:prstGeom prst="rect">
                <a:avLst/>
              </a:prstGeom>
              <a:noFill/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矩形 3"/>
              <p:cNvSpPr/>
              <p:nvPr/>
            </p:nvSpPr>
            <p:spPr>
              <a:xfrm>
                <a:off x="1815480" y="3594600"/>
                <a:ext cx="444240" cy="402120"/>
              </a:xfrm>
              <a:prstGeom prst="rect">
                <a:avLst/>
              </a:prstGeom>
              <a:noFill/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矩形 4"/>
              <p:cNvSpPr/>
              <p:nvPr/>
            </p:nvSpPr>
            <p:spPr>
              <a:xfrm>
                <a:off x="2803320" y="3594600"/>
                <a:ext cx="444240" cy="402120"/>
              </a:xfrm>
              <a:prstGeom prst="rect">
                <a:avLst/>
              </a:prstGeom>
              <a:noFill/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椭圆 6"/>
              <p:cNvSpPr/>
              <p:nvPr/>
            </p:nvSpPr>
            <p:spPr>
              <a:xfrm>
                <a:off x="1200240" y="3537360"/>
                <a:ext cx="504000" cy="504000"/>
              </a:xfrm>
              <a:prstGeom prst="ellipse">
                <a:avLst/>
              </a:prstGeom>
              <a:noFill/>
              <a:ln w="1260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文本框 49"/>
              <p:cNvSpPr/>
              <p:nvPr/>
            </p:nvSpPr>
            <p:spPr>
              <a:xfrm>
                <a:off x="2335320" y="3453840"/>
                <a:ext cx="43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alibri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文本框 51"/>
              <p:cNvSpPr/>
              <p:nvPr/>
            </p:nvSpPr>
            <p:spPr>
              <a:xfrm>
                <a:off x="3073680" y="354420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（  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组合 64"/>
            <p:cNvGrpSpPr/>
            <p:nvPr/>
          </p:nvGrpSpPr>
          <p:grpSpPr>
            <a:xfrm>
              <a:off x="5264640" y="1588680"/>
              <a:ext cx="693360" cy="986400"/>
              <a:chOff x="5264640" y="1588680"/>
              <a:chExt cx="693360" cy="986400"/>
            </a:xfrm>
          </p:grpSpPr>
          <p:sp>
            <p:nvSpPr>
              <p:cNvPr id="1102" name="矩形 54"/>
              <p:cNvSpPr/>
              <p:nvPr/>
            </p:nvSpPr>
            <p:spPr>
              <a:xfrm>
                <a:off x="5264640" y="1588680"/>
                <a:ext cx="693360" cy="98640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五角星 58"/>
              <p:cNvSpPr/>
              <p:nvPr/>
            </p:nvSpPr>
            <p:spPr>
              <a:xfrm>
                <a:off x="5296320" y="162468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五角星 59"/>
              <p:cNvSpPr/>
              <p:nvPr/>
            </p:nvSpPr>
            <p:spPr>
              <a:xfrm>
                <a:off x="5296320" y="192816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五角星 60"/>
              <p:cNvSpPr/>
              <p:nvPr/>
            </p:nvSpPr>
            <p:spPr>
              <a:xfrm>
                <a:off x="5296320" y="224568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五角星 61"/>
              <p:cNvSpPr/>
              <p:nvPr/>
            </p:nvSpPr>
            <p:spPr>
              <a:xfrm>
                <a:off x="5638320" y="224568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五角星 62"/>
              <p:cNvSpPr/>
              <p:nvPr/>
            </p:nvSpPr>
            <p:spPr>
              <a:xfrm>
                <a:off x="5621760" y="191988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五角星 63"/>
              <p:cNvSpPr/>
              <p:nvPr/>
            </p:nvSpPr>
            <p:spPr>
              <a:xfrm>
                <a:off x="5610960" y="161640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组合 65"/>
            <p:cNvGrpSpPr/>
            <p:nvPr/>
          </p:nvGrpSpPr>
          <p:grpSpPr>
            <a:xfrm>
              <a:off x="6520680" y="1588680"/>
              <a:ext cx="693360" cy="986400"/>
              <a:chOff x="6520680" y="1588680"/>
              <a:chExt cx="693360" cy="986400"/>
            </a:xfrm>
          </p:grpSpPr>
          <p:sp>
            <p:nvSpPr>
              <p:cNvPr id="1110" name="矩形 66"/>
              <p:cNvSpPr/>
              <p:nvPr/>
            </p:nvSpPr>
            <p:spPr>
              <a:xfrm>
                <a:off x="6520680" y="1588680"/>
                <a:ext cx="693360" cy="98640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五角星 67"/>
              <p:cNvSpPr/>
              <p:nvPr/>
            </p:nvSpPr>
            <p:spPr>
              <a:xfrm>
                <a:off x="6552360" y="162468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五角星 68"/>
              <p:cNvSpPr/>
              <p:nvPr/>
            </p:nvSpPr>
            <p:spPr>
              <a:xfrm>
                <a:off x="6552360" y="192816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五角星 69"/>
              <p:cNvSpPr/>
              <p:nvPr/>
            </p:nvSpPr>
            <p:spPr>
              <a:xfrm>
                <a:off x="6552360" y="224568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五角星 70"/>
              <p:cNvSpPr/>
              <p:nvPr/>
            </p:nvSpPr>
            <p:spPr>
              <a:xfrm>
                <a:off x="6894360" y="224568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五角星 71"/>
              <p:cNvSpPr/>
              <p:nvPr/>
            </p:nvSpPr>
            <p:spPr>
              <a:xfrm>
                <a:off x="6877800" y="191988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五角星 72"/>
              <p:cNvSpPr/>
              <p:nvPr/>
            </p:nvSpPr>
            <p:spPr>
              <a:xfrm>
                <a:off x="6867000" y="161640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组合 73"/>
            <p:cNvGrpSpPr/>
            <p:nvPr/>
          </p:nvGrpSpPr>
          <p:grpSpPr>
            <a:xfrm>
              <a:off x="7776720" y="1588680"/>
              <a:ext cx="693360" cy="986400"/>
              <a:chOff x="7776720" y="1588680"/>
              <a:chExt cx="693360" cy="986400"/>
            </a:xfrm>
          </p:grpSpPr>
          <p:sp>
            <p:nvSpPr>
              <p:cNvPr id="1118" name="矩形 74"/>
              <p:cNvSpPr/>
              <p:nvPr/>
            </p:nvSpPr>
            <p:spPr>
              <a:xfrm>
                <a:off x="7776720" y="1588680"/>
                <a:ext cx="693360" cy="98640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五角星 75"/>
              <p:cNvSpPr/>
              <p:nvPr/>
            </p:nvSpPr>
            <p:spPr>
              <a:xfrm>
                <a:off x="7808400" y="162468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五角星 76"/>
              <p:cNvSpPr/>
              <p:nvPr/>
            </p:nvSpPr>
            <p:spPr>
              <a:xfrm>
                <a:off x="7808400" y="192816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五角星 77"/>
              <p:cNvSpPr/>
              <p:nvPr/>
            </p:nvSpPr>
            <p:spPr>
              <a:xfrm>
                <a:off x="7808400" y="224568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五角星 78"/>
              <p:cNvSpPr/>
              <p:nvPr/>
            </p:nvSpPr>
            <p:spPr>
              <a:xfrm>
                <a:off x="8150400" y="224568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五角星 79"/>
              <p:cNvSpPr/>
              <p:nvPr/>
            </p:nvSpPr>
            <p:spPr>
              <a:xfrm>
                <a:off x="8133840" y="191988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五角星 80"/>
              <p:cNvSpPr/>
              <p:nvPr/>
            </p:nvSpPr>
            <p:spPr>
              <a:xfrm>
                <a:off x="8123040" y="1616400"/>
                <a:ext cx="291600" cy="303840"/>
              </a:xfrm>
              <a:custGeom>
                <a:avLst/>
                <a:gdLst/>
                <a:ahLst/>
                <a:rect l="l" t="t" r="r" b="b"/>
                <a:pathLst>
                  <a:path w="460" h="479">
                    <a:moveTo>
                      <a:pt x="0" y="182"/>
                    </a:moveTo>
                    <a:lnTo>
                      <a:pt x="175" y="182"/>
                    </a:lnTo>
                    <a:lnTo>
                      <a:pt x="230" y="0"/>
                    </a:lnTo>
                    <a:lnTo>
                      <a:pt x="284" y="182"/>
                    </a:lnTo>
                    <a:lnTo>
                      <a:pt x="459" y="182"/>
                    </a:lnTo>
                    <a:lnTo>
                      <a:pt x="317" y="296"/>
                    </a:lnTo>
                    <a:lnTo>
                      <a:pt x="372" y="478"/>
                    </a:lnTo>
                    <a:lnTo>
                      <a:pt x="230" y="365"/>
                    </a:lnTo>
                    <a:lnTo>
                      <a:pt x="87" y="478"/>
                    </a:lnTo>
                    <a:lnTo>
                      <a:pt x="142" y="296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5" name="图片 81" descr=""/>
            <p:cNvPicPr/>
            <p:nvPr/>
          </p:nvPicPr>
          <p:blipFill>
            <a:blip r:embed="rId9"/>
            <a:srcRect l="0" t="0" r="5927" b="0"/>
            <a:stretch/>
          </p:blipFill>
          <p:spPr>
            <a:xfrm rot="16200000">
              <a:off x="6713280" y="1087560"/>
              <a:ext cx="39204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6" name="文本框 82"/>
            <p:cNvSpPr/>
            <p:nvPr/>
          </p:nvSpPr>
          <p:spPr>
            <a:xfrm>
              <a:off x="6521760" y="2796840"/>
              <a:ext cx="117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？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7" name="组合 83"/>
            <p:cNvGrpSpPr/>
            <p:nvPr/>
          </p:nvGrpSpPr>
          <p:grpSpPr>
            <a:xfrm>
              <a:off x="5221440" y="3453840"/>
              <a:ext cx="3528360" cy="642600"/>
              <a:chOff x="5221440" y="3453840"/>
              <a:chExt cx="3528360" cy="642600"/>
            </a:xfrm>
          </p:grpSpPr>
          <p:sp>
            <p:nvSpPr>
              <p:cNvPr id="1128" name="矩形 84"/>
              <p:cNvSpPr/>
              <p:nvPr/>
            </p:nvSpPr>
            <p:spPr>
              <a:xfrm>
                <a:off x="5221440" y="3594600"/>
                <a:ext cx="444240" cy="402120"/>
              </a:xfrm>
              <a:prstGeom prst="rect">
                <a:avLst/>
              </a:prstGeom>
              <a:noFill/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矩形 85"/>
              <p:cNvSpPr/>
              <p:nvPr/>
            </p:nvSpPr>
            <p:spPr>
              <a:xfrm>
                <a:off x="6424560" y="3594600"/>
                <a:ext cx="444240" cy="402120"/>
              </a:xfrm>
              <a:prstGeom prst="rect">
                <a:avLst/>
              </a:prstGeom>
              <a:noFill/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矩形 86"/>
              <p:cNvSpPr/>
              <p:nvPr/>
            </p:nvSpPr>
            <p:spPr>
              <a:xfrm>
                <a:off x="7412400" y="3594600"/>
                <a:ext cx="444240" cy="402120"/>
              </a:xfrm>
              <a:prstGeom prst="rect">
                <a:avLst/>
              </a:prstGeom>
              <a:noFill/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椭圆 87"/>
              <p:cNvSpPr/>
              <p:nvPr/>
            </p:nvSpPr>
            <p:spPr>
              <a:xfrm>
                <a:off x="5809320" y="3537360"/>
                <a:ext cx="504000" cy="504000"/>
              </a:xfrm>
              <a:prstGeom prst="ellipse">
                <a:avLst/>
              </a:prstGeom>
              <a:noFill/>
              <a:ln w="1260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文本框 88"/>
              <p:cNvSpPr/>
              <p:nvPr/>
            </p:nvSpPr>
            <p:spPr>
              <a:xfrm>
                <a:off x="6944400" y="3453840"/>
                <a:ext cx="43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alibri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文本框 89"/>
              <p:cNvSpPr/>
              <p:nvPr/>
            </p:nvSpPr>
            <p:spPr>
              <a:xfrm>
                <a:off x="7682760" y="354420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（  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4" name="组合 101"/>
          <p:cNvGrpSpPr/>
          <p:nvPr/>
        </p:nvGrpSpPr>
        <p:grpSpPr>
          <a:xfrm>
            <a:off x="657360" y="3533760"/>
            <a:ext cx="3470040" cy="536760"/>
            <a:chOff x="657360" y="3533760"/>
            <a:chExt cx="3470040" cy="536760"/>
          </a:xfrm>
        </p:grpSpPr>
        <p:sp>
          <p:nvSpPr>
            <p:cNvPr id="1135" name="文本框 91"/>
            <p:cNvSpPr/>
            <p:nvPr/>
          </p:nvSpPr>
          <p:spPr>
            <a:xfrm>
              <a:off x="657360" y="354996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文本框 92"/>
            <p:cNvSpPr/>
            <p:nvPr/>
          </p:nvSpPr>
          <p:spPr>
            <a:xfrm>
              <a:off x="1181520" y="354168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文本框 93"/>
            <p:cNvSpPr/>
            <p:nvPr/>
          </p:nvSpPr>
          <p:spPr>
            <a:xfrm>
              <a:off x="1843560" y="354996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文本框 94"/>
            <p:cNvSpPr/>
            <p:nvPr/>
          </p:nvSpPr>
          <p:spPr>
            <a:xfrm>
              <a:off x="2726280" y="3541680"/>
              <a:ext cx="71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文本框 95"/>
            <p:cNvSpPr/>
            <p:nvPr/>
          </p:nvSpPr>
          <p:spPr>
            <a:xfrm>
              <a:off x="3415320" y="3533760"/>
              <a:ext cx="71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组合 102"/>
          <p:cNvGrpSpPr/>
          <p:nvPr/>
        </p:nvGrpSpPr>
        <p:grpSpPr>
          <a:xfrm>
            <a:off x="5246640" y="3533760"/>
            <a:ext cx="3471840" cy="536760"/>
            <a:chOff x="5246640" y="3533760"/>
            <a:chExt cx="3471840" cy="536760"/>
          </a:xfrm>
        </p:grpSpPr>
        <p:sp>
          <p:nvSpPr>
            <p:cNvPr id="1141" name="文本框 96"/>
            <p:cNvSpPr/>
            <p:nvPr/>
          </p:nvSpPr>
          <p:spPr>
            <a:xfrm>
              <a:off x="5246640" y="3549960"/>
              <a:ext cx="48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文本框 97"/>
            <p:cNvSpPr/>
            <p:nvPr/>
          </p:nvSpPr>
          <p:spPr>
            <a:xfrm>
              <a:off x="5771160" y="354168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文本框 98"/>
            <p:cNvSpPr/>
            <p:nvPr/>
          </p:nvSpPr>
          <p:spPr>
            <a:xfrm>
              <a:off x="6433560" y="3549960"/>
              <a:ext cx="48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文本框 99"/>
            <p:cNvSpPr/>
            <p:nvPr/>
          </p:nvSpPr>
          <p:spPr>
            <a:xfrm>
              <a:off x="7317000" y="35416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文本框 100"/>
            <p:cNvSpPr/>
            <p:nvPr/>
          </p:nvSpPr>
          <p:spPr>
            <a:xfrm>
              <a:off x="8006040" y="353376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组合 2"/>
          <p:cNvGrpSpPr/>
          <p:nvPr/>
        </p:nvGrpSpPr>
        <p:grpSpPr>
          <a:xfrm>
            <a:off x="7920" y="87480"/>
            <a:ext cx="2786040" cy="527040"/>
            <a:chOff x="7920" y="87480"/>
            <a:chExt cx="2786040" cy="527040"/>
          </a:xfrm>
        </p:grpSpPr>
        <p:pic>
          <p:nvPicPr>
            <p:cNvPr id="1147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33200" y="87480"/>
              <a:ext cx="2660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8" name="组合 4"/>
            <p:cNvGrpSpPr/>
            <p:nvPr/>
          </p:nvGrpSpPr>
          <p:grpSpPr>
            <a:xfrm>
              <a:off x="7920" y="182520"/>
              <a:ext cx="367920" cy="274680"/>
              <a:chOff x="7920" y="182520"/>
              <a:chExt cx="367920" cy="274680"/>
            </a:xfrm>
          </p:grpSpPr>
          <p:sp>
            <p:nvSpPr>
              <p:cNvPr id="1149" name="椭圆 8"/>
              <p:cNvSpPr/>
              <p:nvPr/>
            </p:nvSpPr>
            <p:spPr>
              <a:xfrm rot="16200000">
                <a:off x="237960" y="349920"/>
                <a:ext cx="9576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0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74600" y="326160"/>
                <a:ext cx="201240" cy="12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1" name="椭圆 9"/>
              <p:cNvSpPr/>
              <p:nvPr/>
            </p:nvSpPr>
            <p:spPr>
              <a:xfrm rot="16200000">
                <a:off x="237960" y="227160"/>
                <a:ext cx="95760" cy="114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2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4600" y="199080"/>
                <a:ext cx="201240" cy="12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344520"/>
                <a:ext cx="2970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7920" y="312840"/>
                <a:ext cx="2970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7920" y="214200"/>
                <a:ext cx="29700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7920" y="182520"/>
                <a:ext cx="297000" cy="112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7" name="文本框 1"/>
          <p:cNvSpPr/>
          <p:nvPr/>
        </p:nvSpPr>
        <p:spPr>
          <a:xfrm>
            <a:off x="682560" y="878040"/>
            <a:ext cx="84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聪聪从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棵树走到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棵树，一共走了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组合 17"/>
          <p:cNvGrpSpPr/>
          <p:nvPr/>
        </p:nvGrpSpPr>
        <p:grpSpPr>
          <a:xfrm>
            <a:off x="2741760" y="1720800"/>
            <a:ext cx="5706720" cy="965160"/>
            <a:chOff x="2741760" y="1720800"/>
            <a:chExt cx="5706720" cy="965160"/>
          </a:xfrm>
        </p:grpSpPr>
        <p:sp>
          <p:nvSpPr>
            <p:cNvPr id="1159" name="任意多边形 2"/>
            <p:cNvSpPr/>
            <p:nvPr/>
          </p:nvSpPr>
          <p:spPr>
            <a:xfrm>
              <a:off x="4434840" y="1720800"/>
              <a:ext cx="627480" cy="965160"/>
            </a:xfrm>
            <a:custGeom>
              <a:avLst/>
              <a:gdLst/>
              <a:ahLst/>
              <a:rect l="l" t="t" r="r" b="b"/>
              <a:pathLst>
                <a:path w="627380" h="949325">
                  <a:moveTo>
                    <a:pt x="321945" y="0"/>
                  </a:moveTo>
                  <a:lnTo>
                    <a:pt x="135890" y="194945"/>
                  </a:lnTo>
                  <a:lnTo>
                    <a:pt x="288290" y="194945"/>
                  </a:lnTo>
                  <a:lnTo>
                    <a:pt x="0" y="431800"/>
                  </a:lnTo>
                  <a:lnTo>
                    <a:pt x="280035" y="431800"/>
                  </a:lnTo>
                  <a:lnTo>
                    <a:pt x="280035" y="949325"/>
                  </a:lnTo>
                  <a:lnTo>
                    <a:pt x="356235" y="949325"/>
                  </a:lnTo>
                  <a:lnTo>
                    <a:pt x="356235" y="423545"/>
                  </a:lnTo>
                  <a:lnTo>
                    <a:pt x="627380" y="423545"/>
                  </a:lnTo>
                  <a:lnTo>
                    <a:pt x="356235" y="203200"/>
                  </a:lnTo>
                  <a:lnTo>
                    <a:pt x="474980" y="203200"/>
                  </a:lnTo>
                  <a:lnTo>
                    <a:pt x="32194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任意多边形 3"/>
            <p:cNvSpPr/>
            <p:nvPr/>
          </p:nvSpPr>
          <p:spPr>
            <a:xfrm>
              <a:off x="5281560" y="1720800"/>
              <a:ext cx="627480" cy="965160"/>
            </a:xfrm>
            <a:custGeom>
              <a:avLst/>
              <a:gdLst/>
              <a:ahLst/>
              <a:rect l="l" t="t" r="r" b="b"/>
              <a:pathLst>
                <a:path w="627380" h="949325">
                  <a:moveTo>
                    <a:pt x="321945" y="0"/>
                  </a:moveTo>
                  <a:lnTo>
                    <a:pt x="135890" y="194945"/>
                  </a:lnTo>
                  <a:lnTo>
                    <a:pt x="288290" y="194945"/>
                  </a:lnTo>
                  <a:lnTo>
                    <a:pt x="0" y="431800"/>
                  </a:lnTo>
                  <a:lnTo>
                    <a:pt x="280035" y="431800"/>
                  </a:lnTo>
                  <a:lnTo>
                    <a:pt x="280035" y="949325"/>
                  </a:lnTo>
                  <a:lnTo>
                    <a:pt x="356235" y="949325"/>
                  </a:lnTo>
                  <a:lnTo>
                    <a:pt x="356235" y="423545"/>
                  </a:lnTo>
                  <a:lnTo>
                    <a:pt x="627380" y="423545"/>
                  </a:lnTo>
                  <a:lnTo>
                    <a:pt x="356235" y="203200"/>
                  </a:lnTo>
                  <a:lnTo>
                    <a:pt x="474980" y="203200"/>
                  </a:lnTo>
                  <a:lnTo>
                    <a:pt x="32194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任意多边形 4"/>
            <p:cNvSpPr/>
            <p:nvPr/>
          </p:nvSpPr>
          <p:spPr>
            <a:xfrm>
              <a:off x="6127920" y="1720800"/>
              <a:ext cx="627480" cy="965160"/>
            </a:xfrm>
            <a:custGeom>
              <a:avLst/>
              <a:gdLst/>
              <a:ahLst/>
              <a:rect l="l" t="t" r="r" b="b"/>
              <a:pathLst>
                <a:path w="627380" h="949325">
                  <a:moveTo>
                    <a:pt x="321945" y="0"/>
                  </a:moveTo>
                  <a:lnTo>
                    <a:pt x="135890" y="194945"/>
                  </a:lnTo>
                  <a:lnTo>
                    <a:pt x="288290" y="194945"/>
                  </a:lnTo>
                  <a:lnTo>
                    <a:pt x="0" y="431800"/>
                  </a:lnTo>
                  <a:lnTo>
                    <a:pt x="280035" y="431800"/>
                  </a:lnTo>
                  <a:lnTo>
                    <a:pt x="280035" y="949325"/>
                  </a:lnTo>
                  <a:lnTo>
                    <a:pt x="356235" y="949325"/>
                  </a:lnTo>
                  <a:lnTo>
                    <a:pt x="356235" y="423545"/>
                  </a:lnTo>
                  <a:lnTo>
                    <a:pt x="627380" y="423545"/>
                  </a:lnTo>
                  <a:lnTo>
                    <a:pt x="356235" y="203200"/>
                  </a:lnTo>
                  <a:lnTo>
                    <a:pt x="474980" y="203200"/>
                  </a:lnTo>
                  <a:lnTo>
                    <a:pt x="32194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任意多边形 5"/>
            <p:cNvSpPr/>
            <p:nvPr/>
          </p:nvSpPr>
          <p:spPr>
            <a:xfrm>
              <a:off x="3588120" y="1720800"/>
              <a:ext cx="627480" cy="965160"/>
            </a:xfrm>
            <a:custGeom>
              <a:avLst/>
              <a:gdLst/>
              <a:ahLst/>
              <a:rect l="l" t="t" r="r" b="b"/>
              <a:pathLst>
                <a:path w="627380" h="949325">
                  <a:moveTo>
                    <a:pt x="321945" y="0"/>
                  </a:moveTo>
                  <a:lnTo>
                    <a:pt x="135890" y="194945"/>
                  </a:lnTo>
                  <a:lnTo>
                    <a:pt x="288290" y="194945"/>
                  </a:lnTo>
                  <a:lnTo>
                    <a:pt x="0" y="431800"/>
                  </a:lnTo>
                  <a:lnTo>
                    <a:pt x="280035" y="431800"/>
                  </a:lnTo>
                  <a:lnTo>
                    <a:pt x="280035" y="949325"/>
                  </a:lnTo>
                  <a:lnTo>
                    <a:pt x="356235" y="949325"/>
                  </a:lnTo>
                  <a:lnTo>
                    <a:pt x="356235" y="423545"/>
                  </a:lnTo>
                  <a:lnTo>
                    <a:pt x="627380" y="423545"/>
                  </a:lnTo>
                  <a:lnTo>
                    <a:pt x="356235" y="203200"/>
                  </a:lnTo>
                  <a:lnTo>
                    <a:pt x="474980" y="203200"/>
                  </a:lnTo>
                  <a:lnTo>
                    <a:pt x="32194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任意多边形 6"/>
            <p:cNvSpPr/>
            <p:nvPr/>
          </p:nvSpPr>
          <p:spPr>
            <a:xfrm>
              <a:off x="2741760" y="1720800"/>
              <a:ext cx="627120" cy="965160"/>
            </a:xfrm>
            <a:custGeom>
              <a:avLst/>
              <a:gdLst/>
              <a:ahLst/>
              <a:rect l="l" t="t" r="r" b="b"/>
              <a:pathLst>
                <a:path w="627380" h="949325">
                  <a:moveTo>
                    <a:pt x="321945" y="0"/>
                  </a:moveTo>
                  <a:lnTo>
                    <a:pt x="135890" y="194945"/>
                  </a:lnTo>
                  <a:lnTo>
                    <a:pt x="288290" y="194945"/>
                  </a:lnTo>
                  <a:lnTo>
                    <a:pt x="0" y="431800"/>
                  </a:lnTo>
                  <a:lnTo>
                    <a:pt x="280035" y="431800"/>
                  </a:lnTo>
                  <a:lnTo>
                    <a:pt x="280035" y="949325"/>
                  </a:lnTo>
                  <a:lnTo>
                    <a:pt x="356235" y="949325"/>
                  </a:lnTo>
                  <a:lnTo>
                    <a:pt x="356235" y="423545"/>
                  </a:lnTo>
                  <a:lnTo>
                    <a:pt x="627380" y="423545"/>
                  </a:lnTo>
                  <a:lnTo>
                    <a:pt x="356235" y="203200"/>
                  </a:lnTo>
                  <a:lnTo>
                    <a:pt x="474980" y="203200"/>
                  </a:lnTo>
                  <a:lnTo>
                    <a:pt x="32194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任意多边形 7"/>
            <p:cNvSpPr/>
            <p:nvPr/>
          </p:nvSpPr>
          <p:spPr>
            <a:xfrm>
              <a:off x="6974640" y="1720800"/>
              <a:ext cx="627480" cy="965160"/>
            </a:xfrm>
            <a:custGeom>
              <a:avLst/>
              <a:gdLst/>
              <a:ahLst/>
              <a:rect l="l" t="t" r="r" b="b"/>
              <a:pathLst>
                <a:path w="627380" h="949325">
                  <a:moveTo>
                    <a:pt x="321945" y="0"/>
                  </a:moveTo>
                  <a:lnTo>
                    <a:pt x="135890" y="194945"/>
                  </a:lnTo>
                  <a:lnTo>
                    <a:pt x="288290" y="194945"/>
                  </a:lnTo>
                  <a:lnTo>
                    <a:pt x="0" y="431800"/>
                  </a:lnTo>
                  <a:lnTo>
                    <a:pt x="280035" y="431800"/>
                  </a:lnTo>
                  <a:lnTo>
                    <a:pt x="280035" y="949325"/>
                  </a:lnTo>
                  <a:lnTo>
                    <a:pt x="356235" y="949325"/>
                  </a:lnTo>
                  <a:lnTo>
                    <a:pt x="356235" y="423545"/>
                  </a:lnTo>
                  <a:lnTo>
                    <a:pt x="627380" y="423545"/>
                  </a:lnTo>
                  <a:lnTo>
                    <a:pt x="356235" y="203200"/>
                  </a:lnTo>
                  <a:lnTo>
                    <a:pt x="474980" y="203200"/>
                  </a:lnTo>
                  <a:lnTo>
                    <a:pt x="32194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任意多边形 13"/>
            <p:cNvSpPr/>
            <p:nvPr/>
          </p:nvSpPr>
          <p:spPr>
            <a:xfrm>
              <a:off x="7821360" y="1720800"/>
              <a:ext cx="627120" cy="965160"/>
            </a:xfrm>
            <a:custGeom>
              <a:avLst/>
              <a:gdLst/>
              <a:ahLst/>
              <a:rect l="l" t="t" r="r" b="b"/>
              <a:pathLst>
                <a:path w="627380" h="949325">
                  <a:moveTo>
                    <a:pt x="321945" y="0"/>
                  </a:moveTo>
                  <a:lnTo>
                    <a:pt x="135890" y="194945"/>
                  </a:lnTo>
                  <a:lnTo>
                    <a:pt x="288290" y="194945"/>
                  </a:lnTo>
                  <a:lnTo>
                    <a:pt x="0" y="431800"/>
                  </a:lnTo>
                  <a:lnTo>
                    <a:pt x="280035" y="431800"/>
                  </a:lnTo>
                  <a:lnTo>
                    <a:pt x="280035" y="949325"/>
                  </a:lnTo>
                  <a:lnTo>
                    <a:pt x="356235" y="949325"/>
                  </a:lnTo>
                  <a:lnTo>
                    <a:pt x="356235" y="423545"/>
                  </a:lnTo>
                  <a:lnTo>
                    <a:pt x="627380" y="423545"/>
                  </a:lnTo>
                  <a:lnTo>
                    <a:pt x="356235" y="203200"/>
                  </a:lnTo>
                  <a:lnTo>
                    <a:pt x="474980" y="203200"/>
                  </a:lnTo>
                  <a:lnTo>
                    <a:pt x="321945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6" name="云形标注 19"/>
          <p:cNvSpPr/>
          <p:nvPr/>
        </p:nvSpPr>
        <p:spPr>
          <a:xfrm>
            <a:off x="324000" y="1501920"/>
            <a:ext cx="1973160" cy="863280"/>
          </a:xfrm>
          <a:prstGeom prst="cloudCallout">
            <a:avLst>
              <a:gd name="adj1" fmla="val 74560"/>
              <a:gd name="adj2" fmla="val 35967"/>
            </a:avLst>
          </a:prstGeom>
          <a:solidFill>
            <a:srgbClr val="ffe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每两棵树之间都相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22"/>
          <p:cNvSpPr/>
          <p:nvPr/>
        </p:nvSpPr>
        <p:spPr>
          <a:xfrm>
            <a:off x="1015920" y="3187800"/>
            <a:ext cx="78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-1=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段）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=3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01:35:00Z</dcterms:created>
  <dc:creator/>
  <dc:description/>
  <dc:language>en-US</dc:language>
  <cp:lastModifiedBy>万润仪器贸易公司</cp:lastModifiedBy>
  <dcterms:modified xsi:type="dcterms:W3CDTF">2020-08-21T00:34:30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